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4.png" ContentType="image/png"/>
  <Override PartName="/ppt/media/image11.gif" ContentType="image/gif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F6368-E747-4884-9CD4-CCF0D82652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E696B-E6D2-4CBD-A621-2465B19F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F88769-75A3-4243-B489-B2A5D24E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E195D7-A0B9-4680-805B-BC413BCC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577F2F-8D65-4695-83EC-3B266717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252DBD-72B4-4722-8068-4B9526D7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EDB3BF-4C05-4241-B0F5-2CAD4D5C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AE982F-45EA-4903-8BFA-69D58844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ECC2C5-9D2D-40A0-8FDD-ABDB96A4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894F63-3055-4E48-9AAF-4FBE5D6A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83311C-947D-449D-A664-32263FC793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F2FA1-674F-4E21-8F91-CD2DEC3847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C83E-47BA-4ADC-A7AD-163DE890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36C65-AB95-46C9-B90C-6086C1CC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F3C40-7ED7-4383-932D-72F92033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C696A-3EF9-45B5-B23E-4BCF916B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D25E5-C422-4DA1-BBED-F143F998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DE63D-EEB9-491A-ADF4-F6B7FE19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3E210-69ED-4591-80F5-281F647F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2053F-755C-40CE-9C54-6DC9DD71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0C982-2C6E-4090-95D5-1CE56FE8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7C023-F037-4D33-BA28-F06E694F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4CF6D-2265-4238-8B59-F3DBC218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ACD7-CDBA-48DF-981C-2F6080002F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722ED-C13B-4DF1-B51D-E5A6A56057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09C060-5DE8-4355-B2B4-B1A6EE91B2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76C497-693E-483C-834E-8D1547D0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FCE3CE-3F47-4547-8181-DC0B2F3F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559BE4-D5BA-4EA3-9484-40CF16F4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44DB65-9F93-4EE4-BD6A-8EEC08AD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9E3C3A-84A0-4811-828C-3AE2F7E5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5CF45A-3935-4E99-839D-C8085E4F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4E1BDA-C6D4-4081-89A7-66DC3493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8C4A6A-7172-419C-8102-0EB8A8DB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1059C-F96F-48F4-AF38-B0F76398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F0B12-D71F-42A8-9561-1D8764AE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AD89C9-F529-42AE-92B7-E3B67494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36EC99-B833-4FB8-BEEF-9A96539261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C7A18-FDA7-4862-8BF9-564B9E7036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08763-66D1-40A1-8DBE-F8751942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943E9F-E4F9-4133-ABE7-A1AEDB59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160BE-31F8-4DA0-B2F6-B821A5B2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309C8-3324-46D8-A0EE-6B23793F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6C018-4A43-4156-B9EE-B3496A17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C8A1A-02EB-4E2E-A970-5CE4C9DD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DC416-B45A-4038-B29E-952FC97B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511A4-E1F7-4441-A4C2-BB76780A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E4274-1B64-48F5-BC67-8DD50FE2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24900-BBFD-450C-8F7D-ACFBA812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31AC0-64A2-4851-AB1B-3DD6DD8B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B76F1-44BC-4803-B8A5-57A35D3198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4A10B-DF87-4A4A-873A-862115A73A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AA8D8-F2E8-44A3-8D6C-420373A9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7F55D-BBEC-4736-81E4-BE2C75FD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877E0-B9E6-4EB2-91D7-966FA28A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16771-76A5-4CB2-89AE-A1A9B379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B876F-6E94-49A2-8870-7849919E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EB7F1-6694-4A45-882D-C7A449C1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62C26-DFF3-4CE3-9C60-790828EF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0F107-E1D2-40E4-97A2-85FE2805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E930E-2F56-45D9-887E-1AF09471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15FE2-1F10-4DE1-8B24-321E03CE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0D8A6-7B70-4A07-9F75-AEFF31F9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DD313-C5D1-4F9F-9528-0BA2EAB9A6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27309-B32D-44AB-B0A2-591A7C16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0E432-A4F8-45BE-9B25-819B0D6D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930E6-C492-4DDC-89B0-F5AEDB02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EBC77-AC85-4E21-A2BD-D10FDC52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0DFB4-1E11-49F3-9E9B-6A5B40C1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A10A4-FD99-40BF-85F9-46713592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B16E7-6139-47EA-BBB2-B171467E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CAE38-477C-44AD-9265-C3A78D6F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2026C-D684-4EEF-81B7-34770FC3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CCEFD-C7A9-428D-80C6-064EDC05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7FF67-F684-48C6-9D02-DD6E4137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D7B36-E206-45C2-889D-14B1066E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FB6A9-9C78-4E2F-AD0C-3CD299A3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7338B-C84F-4A43-AB30-F4921228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D01F9-5806-4AAE-93CA-5AC36397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90A00-98A9-4728-9FA6-3D206B4E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7E5C5-D9EC-4F5D-A4B3-244F4733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25289-CAEC-440B-BB84-44186E22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315A1-722B-49E8-8CC7-3609A83D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28E49-4508-48FB-B1D9-57755615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929F6-7C30-4B29-95AF-7888015E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21B8A-9362-4E1F-81CD-6B534850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67F0A-434D-4802-83BB-506F2DB4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76423-8356-4638-A5E6-ABE14137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8BE73-CF40-42FE-9C3B-846BFA2F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EE1AA-071D-4C8A-A57D-4646ADA9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A4E10-C72A-4CB8-BC4F-B8A5745E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94394-2EC1-4B64-A56F-096491F7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3B82C-EA11-4B9C-9E73-A28E87DB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BB185-9BE5-4F6A-AC2E-E086A977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8D940-B070-45B2-8511-07C0248C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20049-8AC6-4667-98D4-ADF94305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6D98B-2F45-42EE-81AA-A6686D29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C7E50-71D5-4837-ACA9-16C34D15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626CB-3D89-47D7-8150-64A31E8D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299A5-93D3-46B2-A5CE-FEFF1F98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9769D-1F57-42A6-B815-5B8B2A27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CE97F-0F7D-4345-BCD9-C9E76FC8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E320E-4384-487E-8797-32F53B3B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4562D-B461-478D-B632-1009C1E2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C6E46-DEB3-4173-85A0-DE836DB9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EB200-E672-4F86-BE01-70143584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BEBFA-4203-4E2E-A11A-5BF22DBC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1FDA5-DB5F-4944-9AC8-F3ECB00E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9DB4F-5286-44FC-9C21-75F23B1F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8F2BB-1D06-47D0-930E-421A3BAD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25111-B550-4BDB-9D0A-7E182746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4FB63-B893-4C47-8240-6C657AE0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B72FE-ACDC-475D-AD61-64AC1FBB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5D8C7-D2C3-4BA3-975A-BEFA460E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38F26-2D01-4612-AC55-650B8FB7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EBCEC-3255-4B95-8CD5-4E316B5B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855B8-2DC1-4F27-BE95-40D5319F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751B6-21E1-4166-B427-16EDADA1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38D6E-72C0-4473-B90B-EBFD3BB0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697B69-B026-48E9-A437-80CCBFEE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FF863-42C0-45DB-A84C-6145DFB5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EB6F34-44AD-4D89-81A4-FC23683B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80FE5-69F7-4F47-A72F-1FE765B4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311E8-9790-4B13-94EB-79AF8162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9B2B5-4373-42C2-9425-C7B42E73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B4B14-0DDC-4A5E-AF67-2F5A742F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562D8-7C70-4421-9D63-010FACF9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EEBB9-9058-4E6D-97A4-314B68DC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9C216-2938-4A3A-A544-1B07532E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C9626-1913-45E9-901A-D632BFDA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FCD5A-B195-437B-BAF5-06AAFC19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63B4FD-B8C2-4BDB-BEF2-909F057B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FD7DB-72BA-495F-8DE2-DE226D95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5C4269-8D2A-440E-9D3A-30EF13E5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485C4-E5E7-4999-92DC-7B1C34D5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845215-F481-42DF-87E3-EC30173C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D1D6AC-85F7-443A-A368-9AD991CA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D0B19-81EA-4597-8322-9909D56A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D28EF-823C-4692-9A46-F338C58D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A1D3F-4B55-49E4-A4DB-6D121B71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FB6A7D-4FEE-4450-9686-DAE52469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AF915-B316-4241-B237-0FAFB9C0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DA463-F0EA-4729-B01F-3E7189DA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D8C4D0-4C13-4900-82AD-B1D44ADE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2EF3D-F060-4D08-9102-A3F29CAF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DFEDC-3F6C-4224-9300-9CB30350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9237D8-1AA2-40D8-B580-BBE37888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7F4955-D291-4564-93AC-F1A9F5B4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536A8C-632F-4261-98E3-DF25C6DB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90CD1-9F17-4503-825B-F8EFE320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E046F-1F03-49C9-8CA8-80743FCD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7B264-9739-41EC-94D3-E349CFCC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E49A6-B07D-431F-8352-D6C2277E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CABF20-B69B-4478-B91C-A2F20771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4F7365-13F2-42C0-B4C2-74D645C4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9573B-E5CD-4A2B-835D-9F4B5D77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8EB3E-83B0-40DE-B4BF-ED04AED1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F1F960-5A06-4BDB-B3C0-F1DA2767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A637D-707B-439C-B278-45433B6B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F7D5B-E781-4F36-8DB5-9E890C97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710E63-EAC5-4998-B5BC-DF55D837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1B6D7-507E-4F06-892C-8B3D347F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6F767-4020-423F-9B66-D8B96954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B0D150-66C0-474F-B2D3-065B741F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7EEC21-7FDA-413C-8099-89B846A5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322D1F-2FE2-4490-8FDA-EDEC8C83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4ED5AA-2B4A-4496-A925-B5990597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F8A199-E911-442E-B35B-52B582EEA0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B28CDA-E8D8-4EFC-BAE5-DA576344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DE6A3-1E05-49C7-8A33-45830A6C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480819-3C5E-416A-B83A-F0264264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EAA292-3477-47D9-B984-7A7DB24B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24DF8D-C9CF-4529-A972-98BC41F8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C40512-1AEF-485F-9299-690A6DD0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61694F-8A5E-4D5E-8E65-507ABB4B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B1D4C2-4624-49BB-A415-E2DA92A8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BB2F10-6697-44F6-A72D-B300181B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E544FD-4105-4AFE-8B37-EEDD2815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2FB0B0-6422-475C-AF09-1D77C102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76E26-0CB2-4BA3-A8BB-ADBC4B1A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D72429-6843-4A72-BFA2-856E31FE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65E07D-E32E-4765-89D0-A8A3C4AE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E26702-BD9C-4744-97CF-AA897870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E452F4-FF45-4DA4-9A8B-799DD2EB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6D2A11-A95A-44A1-91E9-F07E33B4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EA369F-EFAE-445D-876A-3DEE6B31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5769F4-C544-44D1-9A25-DD27EC41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CF3AF9-D1FA-4F9F-922D-AF229349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7D8A8-3085-43A9-A546-4B117513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ABA888-FCAD-4B8F-AD27-556B2D1F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8178C4-CD0D-4B8F-B15D-F3527C59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F19416-6A15-420D-885B-D718AA25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5D099D-19BA-4CD4-86C0-3FDC932A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B4FD48-E4E0-4DE3-BCDA-470C2A22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C4A787-BB46-48E1-9B82-1FA86FEC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C707AB-74AB-4F88-AE95-438AEA1C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C1AA4E-776D-41D0-8EB5-4D567594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DA8BE4-F2E2-42BA-A6A5-42B7D181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57C575-98A9-4D07-B7DA-E302EC73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3A5030-C53E-4606-98FF-C49C59A2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BF7B6C-3C06-4B6F-AA7E-E0B3721F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E2130-72C6-494D-A01D-CE6C1A1C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3D107-9ABE-4298-95C1-2F11B8B4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176302-1861-49C7-9F13-21025F9F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17B16A-937B-47F2-ADC4-8F056EFC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C3F7BB-3F68-45D6-92CD-86561FB3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87B3AB-1808-4CDE-A174-F019F707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E15063-C281-429B-8A36-9FF59F13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C614C5-CCDE-4A12-9B6B-B841B9FE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7E22CF-EF75-4A24-90C7-3E2FBC4D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1FCBCD-DEBE-4941-8064-51CE1BC2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F814-4E29-400B-84A5-F01A76F8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9446DE-CB12-4EC0-B56D-03D441C8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98CC6-348C-4897-9AD3-5A7FC3C3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6C6BCB-48CD-48CA-AF9E-5A358536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5FB946-B4CD-466E-82AF-88C90B25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41E050-34EA-4793-BD31-4B8CB1C8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105767-A0A9-483A-A69B-65959494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7F563-D33B-416C-9A55-02249738D0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411B3-222B-43E5-9523-72A6431341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2016-4CDA-4CB1-8638-4A6492D7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0EB2C-BD15-4F6A-876F-A70D0D38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10C3B-E03E-46F8-9625-FEA1A308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D41F3-365C-4A3F-A237-79B562D7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BDD27-5958-43B4-89CA-70AF5910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F4476-AEF5-446D-8DF3-0283A6C4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F66D4-A213-4C56-9F90-2A308A43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6643-50C4-4B91-835D-6606F64B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2EF77-B329-44AB-8269-43867018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06F2-68D9-4122-8FF4-7445B63D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4BB6-F3CD-4CFF-B692-E0F7C6F3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0FC42-9D0A-4610-AEC9-10C9364E4E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75A7BF-4681-4503-A8ED-48854CC184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D4616-CD5F-4DA5-8C6D-80ED9E94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5929B8-17E0-4016-8DE8-1384774F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CC17BD-C57A-4E77-83CD-67F672D9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C57E9-37B2-4B59-BD92-D3EE33F9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7D432-6B5E-4ACE-8B1C-B56F0DE4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577B77-BF9E-41DC-9830-DC5BE47D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3B612C-5FFE-469E-BBA1-3A7D88D3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F1BBB1-998F-4407-84E8-C016C129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5E2045-F9D9-411A-81B1-0A0F9970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13A7F-0C7F-43BC-A466-234F5721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BDAEC-8493-4C68-B61F-770ACF26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F6A66-A288-4D6A-AAC6-8705249C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A5B17-6786-4539-8B7B-A26FA070A0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456ABE-5377-4800-9DB5-0AC64E7278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C09B85-D373-40B9-BD37-7627715A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A96553-BCD9-4E93-BC0E-30BA9D1F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7B7F86-F1A7-4136-85F2-8630EA61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4C8583-F4B7-456C-A0A1-0E20398B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5AAB8C-9EFC-4EA1-AB5C-070D1C64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ABB1E9-E1D1-4CA9-AEE2-15C3197B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B67313-F40A-44BC-A5D4-2A93DD6C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E159B0-A2A7-4CC7-AAAE-1BE38782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AB57-D32F-4E51-BD4B-371D53D1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47003B-1DFF-45E5-810A-22F64CE1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359BB4-7684-4F8B-B946-4B1A02FC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A2355F-E4B7-47C4-B67C-7EF4EC5F8B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BC3BC-9079-4505-BA52-2D47002846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B4293-6E35-4FE6-BC1A-3CC488A7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264DB-CF8C-4DC2-B11B-5A75DD4B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9CCD4-906B-4192-B814-59FBB019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9711E-9443-47E4-9A98-5AB8238D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FF306-5AA7-4B26-8315-184B57A7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FA6C3-D771-4F0A-B66A-0A5133EF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CAD5-D108-483F-B989-24C3E5BE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4270D-FB26-41B6-BE91-40837682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A8F3D-FF41-43A1-BFC5-9D141505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6E52E-E1DD-4CFD-AF05-85DB3A1F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4A588-25D6-435B-9F93-48FAC57B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9426F-59F5-4D7C-9A64-9A4F5FE90B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5B2D7E-0FCA-41E7-84F9-0880E076C0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01DEBF-059D-4C6C-BE7E-24EFA0D7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D73CD-AE86-4905-95F6-1295059E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1DC3ED-C0EE-4074-933F-7DBCBB2E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5DFF29-B3D2-4D9A-BF5A-0E8EE96B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B608-3A17-41E6-8AF2-09214A75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FECD0-2372-4752-A6E4-C9C4DB4D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F2BB5-9873-49FA-A522-1DCD96F0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7FD70-79D8-4FB4-9C12-6380D574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57FD9-1A56-4B97-83C3-41EAFE4F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BEC0B-EBAA-4BF2-814B-C85B65E5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F9E69-2AA8-40F6-974D-8F0107DD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42AD5-E8FD-4D67-89E5-E76551228F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E92FBB-B2A9-4EBC-9264-82A1224D08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052828-6BA7-4257-85F8-48F2DEE4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407F08-C229-4AEE-9AFF-79CF6CA4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9EAE-42D1-40B7-AF38-2F395044BFF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DC21-3ACF-4F70-81C8-37F32DFA09C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9F5E-3930-4B8D-8F58-438B071BE39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0511-A478-4337-9C1A-77052FA88C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CBFA-30FC-4B79-8374-085532C5FA8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8243-966C-451A-B71D-B05C9D0C78D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EEBC-85E1-4ED2-B925-20E9DB97DC9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05AC-2DE9-4A42-B146-4D49BEC476C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496D-A08A-4600-9F0D-47FA7B30DB5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3D62-F0A2-4F3F-A514-C68BDDBCA81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6AF7-620B-455B-8A53-F14513617BC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91BB-D102-48D8-B5B4-384C3E6801F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6DD0-A9AC-4C59-A2DE-E9A74E31E8D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A206-C7B8-467C-84D9-A5F8E884AEA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AB60-BB97-4BAC-9AE7-50AA4E59118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5A4D-DD1C-4A29-AC4E-965ED6EB562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9125-FC00-4F7A-920E-B8608F711F5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4253-F45F-4821-AAF4-924DDBEC0D3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AAC1-3B94-4B59-875C-3D382395AA5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7942-63A5-4CC3-8C7D-127F51F9038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728F-11D4-4C59-AC38-44018CB1971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C7C8-3524-42CD-948D-AA9AFE8803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001A-3038-4A54-8372-58E70E47026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6A24-B7C6-4461-B0C7-219EAEEE060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290680" y="269712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65572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5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乘 法 口 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 txBox="1"/>
          <p:nvPr/>
        </p:nvSpPr>
        <p:spPr>
          <a:xfrm>
            <a:off x="341280" y="50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在     里填上 “＞”、“＜”或“＝”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×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×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                 2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×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　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28741"/>
          <p:cNvSpPr/>
          <p:nvPr/>
        </p:nvSpPr>
        <p:spPr>
          <a:xfrm>
            <a:off x="1427040" y="2050920"/>
            <a:ext cx="484200" cy="32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28741"/>
          <p:cNvSpPr/>
          <p:nvPr/>
        </p:nvSpPr>
        <p:spPr>
          <a:xfrm>
            <a:off x="5524560" y="1984320"/>
            <a:ext cx="48420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28741"/>
          <p:cNvSpPr/>
          <p:nvPr/>
        </p:nvSpPr>
        <p:spPr>
          <a:xfrm>
            <a:off x="1371600" y="2995560"/>
            <a:ext cx="48276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Oval 28741"/>
          <p:cNvSpPr/>
          <p:nvPr/>
        </p:nvSpPr>
        <p:spPr>
          <a:xfrm>
            <a:off x="6008760" y="2995560"/>
            <a:ext cx="48420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Oval 28741"/>
          <p:cNvSpPr/>
          <p:nvPr/>
        </p:nvSpPr>
        <p:spPr>
          <a:xfrm>
            <a:off x="1407960" y="3975120"/>
            <a:ext cx="484200" cy="32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Oval 28741"/>
          <p:cNvSpPr/>
          <p:nvPr/>
        </p:nvSpPr>
        <p:spPr>
          <a:xfrm>
            <a:off x="4875120" y="3975120"/>
            <a:ext cx="484200" cy="32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文本框 43"/>
          <p:cNvSpPr/>
          <p:nvPr/>
        </p:nvSpPr>
        <p:spPr>
          <a:xfrm>
            <a:off x="1427040" y="1984320"/>
            <a:ext cx="4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44"/>
          <p:cNvSpPr/>
          <p:nvPr/>
        </p:nvSpPr>
        <p:spPr>
          <a:xfrm>
            <a:off x="5524560" y="19191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文本框 45"/>
          <p:cNvSpPr/>
          <p:nvPr/>
        </p:nvSpPr>
        <p:spPr>
          <a:xfrm>
            <a:off x="1371600" y="29304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文本框 47"/>
          <p:cNvSpPr/>
          <p:nvPr/>
        </p:nvSpPr>
        <p:spPr>
          <a:xfrm>
            <a:off x="6070680" y="2930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文本框 50"/>
          <p:cNvSpPr/>
          <p:nvPr/>
        </p:nvSpPr>
        <p:spPr>
          <a:xfrm>
            <a:off x="1371600" y="3908520"/>
            <a:ext cx="6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文本框 51"/>
          <p:cNvSpPr/>
          <p:nvPr/>
        </p:nvSpPr>
        <p:spPr>
          <a:xfrm>
            <a:off x="4875120" y="390852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椭圆 1"/>
          <p:cNvSpPr/>
          <p:nvPr/>
        </p:nvSpPr>
        <p:spPr>
          <a:xfrm>
            <a:off x="1692360" y="1054080"/>
            <a:ext cx="431640" cy="28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249120" y="90144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、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只小狗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块骨头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小狗一共吃了多少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答：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只小狗一共吃了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星期天，小兔子一家去拔萝卜，准备星期一招待客人。每只兔子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萝卜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兔子可以拔多少个萝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5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答：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只兔子可以拔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5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个萝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1"/>
          <p:cNvSpPr/>
          <p:nvPr/>
        </p:nvSpPr>
        <p:spPr>
          <a:xfrm>
            <a:off x="1424160" y="2403360"/>
            <a:ext cx="3906720" cy="10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矩形 2"/>
          <p:cNvSpPr/>
          <p:nvPr/>
        </p:nvSpPr>
        <p:spPr>
          <a:xfrm>
            <a:off x="1073160" y="4830840"/>
            <a:ext cx="5567400" cy="113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999" name="圆角矩形 21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01" name="椭圆 23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6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09" name="组合 47"/>
          <p:cNvGrpSpPr/>
          <p:nvPr/>
        </p:nvGrpSpPr>
        <p:grpSpPr>
          <a:xfrm>
            <a:off x="1144440" y="1193760"/>
            <a:ext cx="6357960" cy="1928880"/>
            <a:chOff x="1144440" y="1193760"/>
            <a:chExt cx="6357960" cy="1928880"/>
          </a:xfrm>
        </p:grpSpPr>
        <p:grpSp>
          <p:nvGrpSpPr>
            <p:cNvPr id="1010" name="组合 3"/>
            <p:cNvGrpSpPr/>
            <p:nvPr/>
          </p:nvGrpSpPr>
          <p:grpSpPr>
            <a:xfrm>
              <a:off x="1144440" y="1193760"/>
              <a:ext cx="2004840" cy="1018080"/>
              <a:chOff x="1144440" y="1193760"/>
              <a:chExt cx="2004840" cy="1018080"/>
            </a:xfrm>
          </p:grpSpPr>
          <p:sp>
            <p:nvSpPr>
              <p:cNvPr id="1011" name="立方体 2"/>
              <p:cNvSpPr/>
              <p:nvPr/>
            </p:nvSpPr>
            <p:spPr>
              <a:xfrm>
                <a:off x="1144440" y="1193760"/>
                <a:ext cx="2004840" cy="1018080"/>
              </a:xfrm>
              <a:prstGeom prst="cube">
                <a:avLst>
                  <a:gd name="adj" fmla="val 25000"/>
                </a:avLst>
              </a:prstGeom>
              <a:solidFill>
                <a:srgbClr val="8886a9"/>
              </a:solidFill>
              <a:ln w="12600">
                <a:solidFill>
                  <a:srgbClr val="8886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2" name="Picture 2" descr="D:\我的文档-桌面-收藏夹\桌面\01200000026287136323314844677.jpg"/>
              <p:cNvPicPr/>
              <p:nvPr/>
            </p:nvPicPr>
            <p:blipFill>
              <a:blip r:embed="rId8"/>
              <a:srcRect l="5456" t="29603" r="4549" b="18588"/>
              <a:stretch/>
            </p:blipFill>
            <p:spPr>
              <a:xfrm>
                <a:off x="1278000" y="1548000"/>
                <a:ext cx="1527480" cy="483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3" name="组合 4"/>
            <p:cNvGrpSpPr/>
            <p:nvPr/>
          </p:nvGrpSpPr>
          <p:grpSpPr>
            <a:xfrm>
              <a:off x="3321000" y="1193760"/>
              <a:ext cx="2004840" cy="1018080"/>
              <a:chOff x="3321000" y="1193760"/>
              <a:chExt cx="2004840" cy="1018080"/>
            </a:xfrm>
          </p:grpSpPr>
          <p:sp>
            <p:nvSpPr>
              <p:cNvPr id="1014" name="立方体 5"/>
              <p:cNvSpPr/>
              <p:nvPr/>
            </p:nvSpPr>
            <p:spPr>
              <a:xfrm>
                <a:off x="3321000" y="1193760"/>
                <a:ext cx="2004840" cy="1018080"/>
              </a:xfrm>
              <a:prstGeom prst="cube">
                <a:avLst>
                  <a:gd name="adj" fmla="val 25000"/>
                </a:avLst>
              </a:prstGeom>
              <a:solidFill>
                <a:srgbClr val="8886a9"/>
              </a:solidFill>
              <a:ln w="12600">
                <a:solidFill>
                  <a:srgbClr val="8886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5" name="Picture 2" descr="D:\我的文档-桌面-收藏夹\桌面\01200000026287136323314844677.jpg"/>
              <p:cNvPicPr/>
              <p:nvPr/>
            </p:nvPicPr>
            <p:blipFill>
              <a:blip r:embed="rId9"/>
              <a:srcRect l="5456" t="29603" r="4549" b="18588"/>
              <a:stretch/>
            </p:blipFill>
            <p:spPr>
              <a:xfrm>
                <a:off x="3454560" y="1548000"/>
                <a:ext cx="1527480" cy="483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6" name="组合 7"/>
            <p:cNvGrpSpPr/>
            <p:nvPr/>
          </p:nvGrpSpPr>
          <p:grpSpPr>
            <a:xfrm>
              <a:off x="5497560" y="1193760"/>
              <a:ext cx="2004840" cy="1018080"/>
              <a:chOff x="5497560" y="1193760"/>
              <a:chExt cx="2004840" cy="1018080"/>
            </a:xfrm>
          </p:grpSpPr>
          <p:sp>
            <p:nvSpPr>
              <p:cNvPr id="1017" name="立方体 8"/>
              <p:cNvSpPr/>
              <p:nvPr/>
            </p:nvSpPr>
            <p:spPr>
              <a:xfrm>
                <a:off x="5497560" y="1193760"/>
                <a:ext cx="2004840" cy="1018080"/>
              </a:xfrm>
              <a:prstGeom prst="cube">
                <a:avLst>
                  <a:gd name="adj" fmla="val 25000"/>
                </a:avLst>
              </a:prstGeom>
              <a:solidFill>
                <a:srgbClr val="8886a9"/>
              </a:solidFill>
              <a:ln w="12600">
                <a:solidFill>
                  <a:srgbClr val="8886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Picture 2" descr="D:\我的文档-桌面-收藏夹\桌面\01200000026287136323314844677.jpg"/>
              <p:cNvPicPr/>
              <p:nvPr/>
            </p:nvPicPr>
            <p:blipFill>
              <a:blip r:embed="rId10"/>
              <a:srcRect l="5456" t="29603" r="4549" b="18588"/>
              <a:stretch/>
            </p:blipFill>
            <p:spPr>
              <a:xfrm>
                <a:off x="5631120" y="1548000"/>
                <a:ext cx="1527480" cy="483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9" name="组合 10"/>
            <p:cNvGrpSpPr/>
            <p:nvPr/>
          </p:nvGrpSpPr>
          <p:grpSpPr>
            <a:xfrm>
              <a:off x="2117880" y="2104560"/>
              <a:ext cx="2004840" cy="1018080"/>
              <a:chOff x="2117880" y="2104560"/>
              <a:chExt cx="2004840" cy="1018080"/>
            </a:xfrm>
          </p:grpSpPr>
          <p:sp>
            <p:nvSpPr>
              <p:cNvPr id="1020" name="立方体 11"/>
              <p:cNvSpPr/>
              <p:nvPr/>
            </p:nvSpPr>
            <p:spPr>
              <a:xfrm>
                <a:off x="2117880" y="2104560"/>
                <a:ext cx="2004840" cy="1018080"/>
              </a:xfrm>
              <a:prstGeom prst="cube">
                <a:avLst>
                  <a:gd name="adj" fmla="val 25000"/>
                </a:avLst>
              </a:prstGeom>
              <a:solidFill>
                <a:srgbClr val="8886a9"/>
              </a:solidFill>
              <a:ln w="12600">
                <a:solidFill>
                  <a:srgbClr val="8886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1" name="Picture 2" descr="D:\我的文档-桌面-收藏夹\桌面\01200000026287136323314844677.jpg"/>
              <p:cNvPicPr/>
              <p:nvPr/>
            </p:nvPicPr>
            <p:blipFill>
              <a:blip r:embed="rId11"/>
              <a:srcRect l="5456" t="29603" r="4549" b="18588"/>
              <a:stretch/>
            </p:blipFill>
            <p:spPr>
              <a:xfrm>
                <a:off x="2251800" y="2458440"/>
                <a:ext cx="1527480" cy="483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2" name="组合 13"/>
            <p:cNvGrpSpPr/>
            <p:nvPr/>
          </p:nvGrpSpPr>
          <p:grpSpPr>
            <a:xfrm>
              <a:off x="4294800" y="2104560"/>
              <a:ext cx="2004840" cy="1018080"/>
              <a:chOff x="4294800" y="2104560"/>
              <a:chExt cx="2004840" cy="1018080"/>
            </a:xfrm>
          </p:grpSpPr>
          <p:sp>
            <p:nvSpPr>
              <p:cNvPr id="1023" name="立方体 14"/>
              <p:cNvSpPr/>
              <p:nvPr/>
            </p:nvSpPr>
            <p:spPr>
              <a:xfrm>
                <a:off x="4294800" y="2104560"/>
                <a:ext cx="2004840" cy="1018080"/>
              </a:xfrm>
              <a:prstGeom prst="cube">
                <a:avLst>
                  <a:gd name="adj" fmla="val 25000"/>
                </a:avLst>
              </a:prstGeom>
              <a:solidFill>
                <a:srgbClr val="8886a9"/>
              </a:solidFill>
              <a:ln w="12600">
                <a:solidFill>
                  <a:srgbClr val="8886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4" name="Picture 2" descr="D:\我的文档-桌面-收藏夹\桌面\01200000026287136323314844677.jpg"/>
              <p:cNvPicPr/>
              <p:nvPr/>
            </p:nvPicPr>
            <p:blipFill>
              <a:blip r:embed="rId12"/>
              <a:srcRect l="5456" t="29603" r="4549" b="18588"/>
              <a:stretch/>
            </p:blipFill>
            <p:spPr>
              <a:xfrm>
                <a:off x="4429080" y="2458440"/>
                <a:ext cx="1527480" cy="483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5" name="TextBox 16"/>
          <p:cNvSpPr/>
          <p:nvPr/>
        </p:nvSpPr>
        <p:spPr>
          <a:xfrm>
            <a:off x="501480" y="0"/>
            <a:ext cx="313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一、新课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17"/>
          <p:cNvSpPr/>
          <p:nvPr/>
        </p:nvSpPr>
        <p:spPr>
          <a:xfrm>
            <a:off x="1366920" y="3170160"/>
            <a:ext cx="3071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一共有多少个福娃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组合 26"/>
          <p:cNvGrpSpPr/>
          <p:nvPr/>
        </p:nvGrpSpPr>
        <p:grpSpPr>
          <a:xfrm>
            <a:off x="1254240" y="4100400"/>
            <a:ext cx="1714320" cy="785880"/>
            <a:chOff x="1254240" y="4100400"/>
            <a:chExt cx="1714320" cy="785880"/>
          </a:xfrm>
        </p:grpSpPr>
        <p:sp>
          <p:nvSpPr>
            <p:cNvPr id="1028" name="TextBox 24"/>
            <p:cNvSpPr/>
            <p:nvPr/>
          </p:nvSpPr>
          <p:spPr>
            <a:xfrm>
              <a:off x="1539720" y="4100400"/>
              <a:ext cx="5713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+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18"/>
            <p:cNvSpPr/>
            <p:nvPr/>
          </p:nvSpPr>
          <p:spPr>
            <a:xfrm>
              <a:off x="1254240" y="4243320"/>
              <a:ext cx="35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直接箭头连接符 20"/>
            <p:cNvCxnSpPr/>
            <p:nvPr/>
          </p:nvCxnSpPr>
          <p:spPr>
            <a:xfrm>
              <a:off x="1539360" y="4600440"/>
              <a:ext cx="5720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31" name="矩形 25"/>
            <p:cNvSpPr/>
            <p:nvPr/>
          </p:nvSpPr>
          <p:spPr>
            <a:xfrm>
              <a:off x="2182680" y="4243320"/>
              <a:ext cx="785880" cy="64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组合 34"/>
          <p:cNvGrpSpPr/>
          <p:nvPr/>
        </p:nvGrpSpPr>
        <p:grpSpPr>
          <a:xfrm>
            <a:off x="3003120" y="4078440"/>
            <a:ext cx="1429200" cy="785520"/>
            <a:chOff x="3003120" y="4078440"/>
            <a:chExt cx="1429200" cy="785520"/>
          </a:xfrm>
        </p:grpSpPr>
        <p:sp>
          <p:nvSpPr>
            <p:cNvPr id="1033" name="TextBox 35"/>
            <p:cNvSpPr/>
            <p:nvPr/>
          </p:nvSpPr>
          <p:spPr>
            <a:xfrm>
              <a:off x="3003480" y="4078440"/>
              <a:ext cx="5713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+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4" name="直接箭头连接符 37"/>
            <p:cNvCxnSpPr/>
            <p:nvPr/>
          </p:nvCxnSpPr>
          <p:spPr>
            <a:xfrm>
              <a:off x="3003120" y="4578480"/>
              <a:ext cx="5720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35" name="矩形 38"/>
            <p:cNvSpPr/>
            <p:nvPr/>
          </p:nvSpPr>
          <p:spPr>
            <a:xfrm>
              <a:off x="3646440" y="4221000"/>
              <a:ext cx="785880" cy="64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39"/>
          <p:cNvGrpSpPr/>
          <p:nvPr/>
        </p:nvGrpSpPr>
        <p:grpSpPr>
          <a:xfrm>
            <a:off x="4503240" y="4078440"/>
            <a:ext cx="1429200" cy="715680"/>
            <a:chOff x="4503240" y="4078440"/>
            <a:chExt cx="1429200" cy="715680"/>
          </a:xfrm>
        </p:grpSpPr>
        <p:sp>
          <p:nvSpPr>
            <p:cNvPr id="1037" name="TextBox 40"/>
            <p:cNvSpPr/>
            <p:nvPr/>
          </p:nvSpPr>
          <p:spPr>
            <a:xfrm>
              <a:off x="4503600" y="4078440"/>
              <a:ext cx="5713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+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8" name="直接箭头连接符 41"/>
            <p:cNvCxnSpPr/>
            <p:nvPr/>
          </p:nvCxnSpPr>
          <p:spPr>
            <a:xfrm>
              <a:off x="4503240" y="4578480"/>
              <a:ext cx="5720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39" name="矩形 42"/>
            <p:cNvSpPr/>
            <p:nvPr/>
          </p:nvSpPr>
          <p:spPr>
            <a:xfrm>
              <a:off x="5146560" y="4151160"/>
              <a:ext cx="785880" cy="64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组合 43"/>
          <p:cNvGrpSpPr/>
          <p:nvPr/>
        </p:nvGrpSpPr>
        <p:grpSpPr>
          <a:xfrm>
            <a:off x="6003720" y="4100400"/>
            <a:ext cx="1428840" cy="693720"/>
            <a:chOff x="6003720" y="4100400"/>
            <a:chExt cx="1428840" cy="693720"/>
          </a:xfrm>
        </p:grpSpPr>
        <p:sp>
          <p:nvSpPr>
            <p:cNvPr id="1041" name="TextBox 44"/>
            <p:cNvSpPr/>
            <p:nvPr/>
          </p:nvSpPr>
          <p:spPr>
            <a:xfrm>
              <a:off x="6004080" y="4100400"/>
              <a:ext cx="5713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+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2" name="直接箭头连接符 45"/>
            <p:cNvCxnSpPr/>
            <p:nvPr/>
          </p:nvCxnSpPr>
          <p:spPr>
            <a:xfrm>
              <a:off x="6003720" y="4600440"/>
              <a:ext cx="5720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43" name="矩形 46"/>
            <p:cNvSpPr/>
            <p:nvPr/>
          </p:nvSpPr>
          <p:spPr>
            <a:xfrm>
              <a:off x="6647040" y="4151160"/>
              <a:ext cx="785520" cy="64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Rectangle 51"/>
          <p:cNvSpPr/>
          <p:nvPr/>
        </p:nvSpPr>
        <p:spPr>
          <a:xfrm>
            <a:off x="2254320" y="434016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51"/>
          <p:cNvSpPr/>
          <p:nvPr/>
        </p:nvSpPr>
        <p:spPr>
          <a:xfrm>
            <a:off x="3718080" y="43624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51"/>
          <p:cNvSpPr/>
          <p:nvPr/>
        </p:nvSpPr>
        <p:spPr>
          <a:xfrm>
            <a:off x="5289480" y="43164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51"/>
          <p:cNvSpPr/>
          <p:nvPr/>
        </p:nvSpPr>
        <p:spPr>
          <a:xfrm>
            <a:off x="6718320" y="43038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八边形 32"/>
          <p:cNvSpPr/>
          <p:nvPr/>
        </p:nvSpPr>
        <p:spPr>
          <a:xfrm>
            <a:off x="385920" y="85896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组合 86"/>
          <p:cNvGrpSpPr/>
          <p:nvPr/>
        </p:nvGrpSpPr>
        <p:grpSpPr>
          <a:xfrm>
            <a:off x="847800" y="1336680"/>
            <a:ext cx="7662960" cy="3071880"/>
            <a:chOff x="847800" y="1336680"/>
            <a:chExt cx="7662960" cy="3071880"/>
          </a:xfrm>
        </p:grpSpPr>
        <p:sp>
          <p:nvSpPr>
            <p:cNvPr id="1050" name="圆角矩形 61"/>
            <p:cNvSpPr/>
            <p:nvPr/>
          </p:nvSpPr>
          <p:spPr>
            <a:xfrm>
              <a:off x="4439160" y="1408320"/>
              <a:ext cx="2214360" cy="3000240"/>
            </a:xfrm>
            <a:custGeom>
              <a:avLst/>
              <a:gdLst>
                <a:gd name="textAreaLeft" fmla="*/ 108000 w 2214360"/>
                <a:gd name="textAreaRight" fmla="*/ 2106360 w 2214360"/>
                <a:gd name="textAreaTop" fmla="*/ 108000 h 3000240"/>
                <a:gd name="textAreaBottom" fmla="*/ 2892240 h 3000240"/>
              </a:gdLst>
              <a:ahLst/>
              <a:rect l="textAreaLeft" t="textAreaTop" r="textAreaRight" b="textAreaBottom"/>
              <a:pathLst>
                <a:path w="21600" h="29265">
                  <a:moveTo>
                    <a:pt x="3600" y="0"/>
                  </a:moveTo>
                  <a:arcTo wR="3600" hR="3600" stAng="16200000" swAng="-5400000"/>
                  <a:lnTo>
                    <a:pt x="0" y="25665"/>
                  </a:lnTo>
                  <a:arcTo wR="3600" hR="3600" stAng="10800000" swAng="-5400000"/>
                  <a:lnTo>
                    <a:pt x="18000" y="292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1" name="Picture 3" descr="D:\我的文档-桌面-收藏夹\桌面\1.tif"/>
            <p:cNvPicPr/>
            <p:nvPr/>
          </p:nvPicPr>
          <p:blipFill>
            <a:blip r:embed="rId1"/>
            <a:stretch/>
          </p:blipFill>
          <p:spPr>
            <a:xfrm>
              <a:off x="847800" y="1479600"/>
              <a:ext cx="123552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TextBox 53"/>
            <p:cNvSpPr/>
            <p:nvPr/>
          </p:nvSpPr>
          <p:spPr>
            <a:xfrm>
              <a:off x="2439360" y="1423440"/>
              <a:ext cx="12855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×5=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TextBox 54"/>
            <p:cNvSpPr/>
            <p:nvPr/>
          </p:nvSpPr>
          <p:spPr>
            <a:xfrm>
              <a:off x="2454480" y="1961280"/>
              <a:ext cx="1571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2×5=1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Box 62"/>
            <p:cNvSpPr/>
            <p:nvPr/>
          </p:nvSpPr>
          <p:spPr>
            <a:xfrm>
              <a:off x="4439520" y="1408320"/>
              <a:ext cx="1571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一五得五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Box 63"/>
            <p:cNvSpPr/>
            <p:nvPr/>
          </p:nvSpPr>
          <p:spPr>
            <a:xfrm>
              <a:off x="4439520" y="1979640"/>
              <a:ext cx="17139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二五一十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Box 67"/>
            <p:cNvSpPr/>
            <p:nvPr/>
          </p:nvSpPr>
          <p:spPr>
            <a:xfrm>
              <a:off x="6714720" y="1336680"/>
              <a:ext cx="12855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5×1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Box 68"/>
            <p:cNvSpPr/>
            <p:nvPr/>
          </p:nvSpPr>
          <p:spPr>
            <a:xfrm>
              <a:off x="6714720" y="1992240"/>
              <a:ext cx="1571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5×2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矩形 73"/>
            <p:cNvSpPr/>
            <p:nvPr/>
          </p:nvSpPr>
          <p:spPr>
            <a:xfrm>
              <a:off x="7725240" y="1979640"/>
              <a:ext cx="7855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74"/>
            <p:cNvSpPr/>
            <p:nvPr/>
          </p:nvSpPr>
          <p:spPr>
            <a:xfrm>
              <a:off x="7725240" y="1336680"/>
              <a:ext cx="78552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Rectangle 51"/>
          <p:cNvSpPr/>
          <p:nvPr/>
        </p:nvSpPr>
        <p:spPr>
          <a:xfrm>
            <a:off x="3429000" y="32050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51"/>
          <p:cNvSpPr/>
          <p:nvPr/>
        </p:nvSpPr>
        <p:spPr>
          <a:xfrm>
            <a:off x="5370480" y="320508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51"/>
          <p:cNvSpPr/>
          <p:nvPr/>
        </p:nvSpPr>
        <p:spPr>
          <a:xfrm>
            <a:off x="7786800" y="33480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55"/>
          <p:cNvSpPr/>
          <p:nvPr/>
        </p:nvSpPr>
        <p:spPr>
          <a:xfrm>
            <a:off x="2476440" y="256212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×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58"/>
          <p:cNvSpPr/>
          <p:nvPr/>
        </p:nvSpPr>
        <p:spPr>
          <a:xfrm>
            <a:off x="3392640" y="2490840"/>
            <a:ext cx="785520" cy="57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64"/>
          <p:cNvSpPr/>
          <p:nvPr/>
        </p:nvSpPr>
        <p:spPr>
          <a:xfrm>
            <a:off x="4440240" y="2550960"/>
            <a:ext cx="214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三五（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组合 88"/>
          <p:cNvGrpSpPr/>
          <p:nvPr/>
        </p:nvGrpSpPr>
        <p:grpSpPr>
          <a:xfrm>
            <a:off x="2476440" y="3825720"/>
            <a:ext cx="4167360" cy="582840"/>
            <a:chOff x="2476440" y="3825720"/>
            <a:chExt cx="4167360" cy="582840"/>
          </a:xfrm>
        </p:grpSpPr>
        <p:sp>
          <p:nvSpPr>
            <p:cNvPr id="1067" name="TextBox 57"/>
            <p:cNvSpPr/>
            <p:nvPr/>
          </p:nvSpPr>
          <p:spPr>
            <a:xfrm>
              <a:off x="2476440" y="3825720"/>
              <a:ext cx="12859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5×5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矩形 60"/>
            <p:cNvSpPr/>
            <p:nvPr/>
          </p:nvSpPr>
          <p:spPr>
            <a:xfrm>
              <a:off x="3392280" y="3825720"/>
              <a:ext cx="785520" cy="58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TextBox 66"/>
            <p:cNvSpPr/>
            <p:nvPr/>
          </p:nvSpPr>
          <p:spPr>
            <a:xfrm>
              <a:off x="4428720" y="3825720"/>
              <a:ext cx="22150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五五（      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TextBox 69"/>
          <p:cNvSpPr/>
          <p:nvPr/>
        </p:nvSpPr>
        <p:spPr>
          <a:xfrm>
            <a:off x="6715080" y="261144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×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71"/>
          <p:cNvSpPr/>
          <p:nvPr/>
        </p:nvSpPr>
        <p:spPr>
          <a:xfrm>
            <a:off x="7715160" y="2619360"/>
            <a:ext cx="785880" cy="571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组合 87"/>
          <p:cNvGrpSpPr/>
          <p:nvPr/>
        </p:nvGrpSpPr>
        <p:grpSpPr>
          <a:xfrm>
            <a:off x="2454120" y="3111480"/>
            <a:ext cx="6046920" cy="703440"/>
            <a:chOff x="2454120" y="3111480"/>
            <a:chExt cx="6046920" cy="703440"/>
          </a:xfrm>
        </p:grpSpPr>
        <p:sp>
          <p:nvSpPr>
            <p:cNvPr id="1073" name="TextBox 65"/>
            <p:cNvSpPr/>
            <p:nvPr/>
          </p:nvSpPr>
          <p:spPr>
            <a:xfrm>
              <a:off x="4428720" y="3111480"/>
              <a:ext cx="2072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四五（     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Box 56"/>
            <p:cNvSpPr/>
            <p:nvPr/>
          </p:nvSpPr>
          <p:spPr>
            <a:xfrm>
              <a:off x="2454120" y="3183120"/>
              <a:ext cx="1285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×5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矩形 59"/>
            <p:cNvSpPr/>
            <p:nvPr/>
          </p:nvSpPr>
          <p:spPr>
            <a:xfrm>
              <a:off x="3391200" y="3111480"/>
              <a:ext cx="785880" cy="57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Box 70"/>
            <p:cNvSpPr/>
            <p:nvPr/>
          </p:nvSpPr>
          <p:spPr>
            <a:xfrm>
              <a:off x="6715440" y="3183120"/>
              <a:ext cx="14079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5×4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矩形 72"/>
            <p:cNvSpPr/>
            <p:nvPr/>
          </p:nvSpPr>
          <p:spPr>
            <a:xfrm>
              <a:off x="7715160" y="3242880"/>
              <a:ext cx="785880" cy="57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Rectangle 51"/>
          <p:cNvSpPr/>
          <p:nvPr/>
        </p:nvSpPr>
        <p:spPr>
          <a:xfrm>
            <a:off x="3392640" y="256212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51"/>
          <p:cNvSpPr/>
          <p:nvPr/>
        </p:nvSpPr>
        <p:spPr>
          <a:xfrm>
            <a:off x="3463920" y="38782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51"/>
          <p:cNvSpPr/>
          <p:nvPr/>
        </p:nvSpPr>
        <p:spPr>
          <a:xfrm>
            <a:off x="5429160" y="258444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十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51"/>
          <p:cNvSpPr/>
          <p:nvPr/>
        </p:nvSpPr>
        <p:spPr>
          <a:xfrm>
            <a:off x="5370480" y="387828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十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51"/>
          <p:cNvSpPr/>
          <p:nvPr/>
        </p:nvSpPr>
        <p:spPr>
          <a:xfrm>
            <a:off x="7858080" y="141912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51"/>
          <p:cNvSpPr/>
          <p:nvPr/>
        </p:nvSpPr>
        <p:spPr>
          <a:xfrm>
            <a:off x="7786800" y="207324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51"/>
          <p:cNvSpPr/>
          <p:nvPr/>
        </p:nvSpPr>
        <p:spPr>
          <a:xfrm>
            <a:off x="7786800" y="268272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51"/>
          <p:cNvSpPr/>
          <p:nvPr/>
        </p:nvSpPr>
        <p:spPr>
          <a:xfrm>
            <a:off x="2428920" y="537840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51"/>
          <p:cNvSpPr/>
          <p:nvPr/>
        </p:nvSpPr>
        <p:spPr>
          <a:xfrm>
            <a:off x="3286080" y="537840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51"/>
          <p:cNvSpPr/>
          <p:nvPr/>
        </p:nvSpPr>
        <p:spPr>
          <a:xfrm>
            <a:off x="4214880" y="5378400"/>
            <a:ext cx="71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Box 5"/>
          <p:cNvSpPr/>
          <p:nvPr/>
        </p:nvSpPr>
        <p:spPr>
          <a:xfrm>
            <a:off x="285840" y="782640"/>
            <a:ext cx="3071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对口诀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组合 4"/>
          <p:cNvGrpSpPr/>
          <p:nvPr/>
        </p:nvGrpSpPr>
        <p:grpSpPr>
          <a:xfrm>
            <a:off x="4429080" y="1568520"/>
            <a:ext cx="2798640" cy="857160"/>
            <a:chOff x="4429080" y="1568520"/>
            <a:chExt cx="2798640" cy="857160"/>
          </a:xfrm>
        </p:grpSpPr>
        <p:sp>
          <p:nvSpPr>
            <p:cNvPr id="1090" name="AutoShape 27"/>
            <p:cNvSpPr/>
            <p:nvPr/>
          </p:nvSpPr>
          <p:spPr>
            <a:xfrm>
              <a:off x="4429080" y="1639800"/>
              <a:ext cx="1572120" cy="785880"/>
            </a:xfrm>
            <a:prstGeom prst="wedgeRoundRectCallout">
              <a:avLst>
                <a:gd name="adj1" fmla="val 69282"/>
                <a:gd name="adj2" fmla="val 2958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十五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1" name="Picture 4" descr="E:\2017秋上·黄倩\其他\人\蜜蜂.gif蜜蜂"/>
            <p:cNvPicPr/>
            <p:nvPr/>
          </p:nvPicPr>
          <p:blipFill>
            <a:blip r:embed="rId1"/>
            <a:stretch/>
          </p:blipFill>
          <p:spPr>
            <a:xfrm>
              <a:off x="6449760" y="1568520"/>
              <a:ext cx="777960" cy="85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2" name="组合 7"/>
          <p:cNvGrpSpPr/>
          <p:nvPr/>
        </p:nvGrpSpPr>
        <p:grpSpPr>
          <a:xfrm>
            <a:off x="1500120" y="1639800"/>
            <a:ext cx="2500560" cy="795600"/>
            <a:chOff x="1500120" y="1639800"/>
            <a:chExt cx="2500560" cy="795600"/>
          </a:xfrm>
        </p:grpSpPr>
        <p:sp>
          <p:nvSpPr>
            <p:cNvPr id="1093" name="AutoShape 27"/>
            <p:cNvSpPr/>
            <p:nvPr/>
          </p:nvSpPr>
          <p:spPr>
            <a:xfrm>
              <a:off x="2437560" y="1639800"/>
              <a:ext cx="1563120" cy="786600"/>
            </a:xfrm>
            <a:prstGeom prst="wedgeRoundRectCallout">
              <a:avLst>
                <a:gd name="adj1" fmla="val -69291"/>
                <a:gd name="adj2" fmla="val 28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三五</a:t>
              </a:r>
              <a:r>
                <a:rPr b="0" lang="en-US" sz="2500" spc="-1" strike="noStrike">
                  <a:solidFill>
                    <a:srgbClr val="1c1c1c"/>
                  </a:solidFill>
                  <a:latin typeface="宋体"/>
                </a:rPr>
                <a:t>…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4" name="Picture 2" descr="E:\2017秋上·黄倩\其他\人\海豚.jpg海豚"/>
            <p:cNvPicPr/>
            <p:nvPr/>
          </p:nvPicPr>
          <p:blipFill>
            <a:blip r:embed="rId2"/>
            <a:stretch/>
          </p:blipFill>
          <p:spPr>
            <a:xfrm>
              <a:off x="1500120" y="1658520"/>
              <a:ext cx="568800" cy="77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5" name="组合 29"/>
          <p:cNvGrpSpPr/>
          <p:nvPr/>
        </p:nvGrpSpPr>
        <p:grpSpPr>
          <a:xfrm>
            <a:off x="285840" y="3282840"/>
            <a:ext cx="7000920" cy="2571840"/>
            <a:chOff x="285840" y="3282840"/>
            <a:chExt cx="7000920" cy="2571840"/>
          </a:xfrm>
        </p:grpSpPr>
        <p:sp>
          <p:nvSpPr>
            <p:cNvPr id="1096" name="TextBox 12"/>
            <p:cNvSpPr/>
            <p:nvPr/>
          </p:nvSpPr>
          <p:spPr>
            <a:xfrm>
              <a:off x="285840" y="3282840"/>
              <a:ext cx="30718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2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7" name="Picture 2" descr="D:\我的文档-桌面-收藏夹\桌面\145622297.jpg"/>
            <p:cNvPicPr/>
            <p:nvPr/>
          </p:nvPicPr>
          <p:blipFill>
            <a:blip r:embed="rId3"/>
            <a:stretch/>
          </p:blipFill>
          <p:spPr>
            <a:xfrm>
              <a:off x="1143000" y="3497040"/>
              <a:ext cx="142848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Picture 2" descr="D:\我的文档-桌面-收藏夹\桌面\145622297.jpg"/>
            <p:cNvPicPr/>
            <p:nvPr/>
          </p:nvPicPr>
          <p:blipFill>
            <a:blip r:embed="rId4"/>
            <a:stretch/>
          </p:blipFill>
          <p:spPr>
            <a:xfrm>
              <a:off x="2714760" y="3497040"/>
              <a:ext cx="142848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Picture 2" descr="D:\我的文档-桌面-收藏夹\桌面\145622297.jpg"/>
            <p:cNvPicPr/>
            <p:nvPr/>
          </p:nvPicPr>
          <p:blipFill>
            <a:blip r:embed="rId5"/>
            <a:stretch/>
          </p:blipFill>
          <p:spPr>
            <a:xfrm>
              <a:off x="4286520" y="3497040"/>
              <a:ext cx="142848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2" descr="D:\我的文档-桌面-收藏夹\桌面\145622297.jpg"/>
            <p:cNvPicPr/>
            <p:nvPr/>
          </p:nvPicPr>
          <p:blipFill>
            <a:blip r:embed="rId6"/>
            <a:stretch/>
          </p:blipFill>
          <p:spPr>
            <a:xfrm>
              <a:off x="5858280" y="3497040"/>
              <a:ext cx="142848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左大括号 17"/>
            <p:cNvSpPr/>
            <p:nvPr/>
          </p:nvSpPr>
          <p:spPr>
            <a:xfrm rot="16200000">
              <a:off x="4036320" y="1388880"/>
              <a:ext cx="285480" cy="6072480"/>
            </a:xfrm>
            <a:custGeom>
              <a:avLst/>
              <a:gdLst>
                <a:gd name="textAreaLeft" fmla="*/ 182520 w 285480"/>
                <a:gd name="textAreaRight" fmla="*/ 285840 w 285480"/>
                <a:gd name="textAreaTop" fmla="*/ 7200 h 6072480"/>
                <a:gd name="textAreaBottom" fmla="*/ 6065280 h 607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2"/>
                    <a:pt x="10800" y="84"/>
                  </a:cubicBezTo>
                  <a:lnTo>
                    <a:pt x="10800" y="10716"/>
                  </a:lnTo>
                  <a:cubicBezTo>
                    <a:pt x="10800" y="10758"/>
                    <a:pt x="5400" y="10800"/>
                    <a:pt x="0" y="10800"/>
                  </a:cubicBezTo>
                  <a:cubicBezTo>
                    <a:pt x="5400" y="10800"/>
                    <a:pt x="10800" y="10842"/>
                    <a:pt x="10800" y="10884"/>
                  </a:cubicBezTo>
                  <a:lnTo>
                    <a:pt x="10800" y="21516"/>
                  </a:lnTo>
                  <a:cubicBezTo>
                    <a:pt x="10800" y="21558"/>
                    <a:pt x="162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Box 18"/>
            <p:cNvSpPr/>
            <p:nvPr/>
          </p:nvSpPr>
          <p:spPr>
            <a:xfrm>
              <a:off x="3786120" y="4497480"/>
              <a:ext cx="8571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？元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3" name="组合 28"/>
            <p:cNvGrpSpPr/>
            <p:nvPr/>
          </p:nvGrpSpPr>
          <p:grpSpPr>
            <a:xfrm>
              <a:off x="2357640" y="5211720"/>
              <a:ext cx="4000680" cy="642960"/>
              <a:chOff x="2357640" y="5211720"/>
              <a:chExt cx="4000680" cy="642960"/>
            </a:xfrm>
          </p:grpSpPr>
          <p:sp>
            <p:nvSpPr>
              <p:cNvPr id="1104" name="TextBox 21"/>
              <p:cNvSpPr/>
              <p:nvPr/>
            </p:nvSpPr>
            <p:spPr>
              <a:xfrm>
                <a:off x="2786040" y="5211720"/>
                <a:ext cx="192888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×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=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矩形 19"/>
              <p:cNvSpPr/>
              <p:nvPr/>
            </p:nvSpPr>
            <p:spPr>
              <a:xfrm>
                <a:off x="2357640" y="5354640"/>
                <a:ext cx="500040" cy="500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矩形 20"/>
              <p:cNvSpPr/>
              <p:nvPr/>
            </p:nvSpPr>
            <p:spPr>
              <a:xfrm>
                <a:off x="3214800" y="5354640"/>
                <a:ext cx="500040" cy="500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矩形 22"/>
              <p:cNvSpPr/>
              <p:nvPr/>
            </p:nvSpPr>
            <p:spPr>
              <a:xfrm>
                <a:off x="4000680" y="5354640"/>
                <a:ext cx="1000080" cy="500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TextBox 23"/>
              <p:cNvSpPr/>
              <p:nvPr/>
            </p:nvSpPr>
            <p:spPr>
              <a:xfrm>
                <a:off x="5001120" y="5211720"/>
                <a:ext cx="135720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(     )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9" name="Rectangle 51"/>
          <p:cNvSpPr/>
          <p:nvPr/>
        </p:nvSpPr>
        <p:spPr>
          <a:xfrm>
            <a:off x="5357880" y="5354640"/>
            <a:ext cx="71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组合 2"/>
          <p:cNvGrpSpPr/>
          <p:nvPr/>
        </p:nvGrpSpPr>
        <p:grpSpPr>
          <a:xfrm>
            <a:off x="-50760" y="87480"/>
            <a:ext cx="3170160" cy="527040"/>
            <a:chOff x="-50760" y="87480"/>
            <a:chExt cx="3170160" cy="527040"/>
          </a:xfrm>
        </p:grpSpPr>
        <p:pic>
          <p:nvPicPr>
            <p:cNvPr id="1111" name="圆角矩形 15" descr=""/>
            <p:cNvPicPr/>
            <p:nvPr/>
          </p:nvPicPr>
          <p:blipFill>
            <a:blip r:embed="rId7"/>
            <a:stretch/>
          </p:blipFill>
          <p:spPr>
            <a:xfrm>
              <a:off x="95760" y="87480"/>
              <a:ext cx="3023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2" name="组合 4"/>
            <p:cNvGrpSpPr/>
            <p:nvPr/>
          </p:nvGrpSpPr>
          <p:grpSpPr>
            <a:xfrm>
              <a:off x="-50760" y="182520"/>
              <a:ext cx="419760" cy="274320"/>
              <a:chOff x="-50760" y="182520"/>
              <a:chExt cx="419760" cy="274320"/>
            </a:xfrm>
          </p:grpSpPr>
          <p:sp>
            <p:nvSpPr>
              <p:cNvPr id="1113" name="椭圆 7"/>
              <p:cNvSpPr/>
              <p:nvPr/>
            </p:nvSpPr>
            <p:spPr>
              <a:xfrm rot="16200000">
                <a:off x="190440" y="347760"/>
                <a:ext cx="9900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4" name="椭圆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58760" y="312840"/>
                <a:ext cx="210240" cy="1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5" name="椭圆 8"/>
              <p:cNvSpPr/>
              <p:nvPr/>
            </p:nvSpPr>
            <p:spPr>
              <a:xfrm rot="16200000">
                <a:off x="190440" y="221040"/>
                <a:ext cx="9900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6" name="椭圆 9" descr=""/>
              <p:cNvPicPr/>
              <p:nvPr/>
            </p:nvPicPr>
            <p:blipFill>
              <a:blip r:embed="rId9"/>
              <a:stretch/>
            </p:blipFill>
            <p:spPr>
              <a:xfrm>
                <a:off x="158760" y="197280"/>
                <a:ext cx="210240" cy="11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7" name="圆角矩形 10" descr=""/>
              <p:cNvPicPr/>
              <p:nvPr/>
            </p:nvPicPr>
            <p:blipFill>
              <a:blip r:embed="rId10"/>
              <a:stretch/>
            </p:blipFill>
            <p:spPr>
              <a:xfrm>
                <a:off x="-50760" y="329760"/>
                <a:ext cx="346680" cy="10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圆角矩形 11" descr=""/>
              <p:cNvPicPr/>
              <p:nvPr/>
            </p:nvPicPr>
            <p:blipFill>
              <a:blip r:embed="rId11"/>
              <a:stretch/>
            </p:blipFill>
            <p:spPr>
              <a:xfrm>
                <a:off x="-50760" y="300600"/>
                <a:ext cx="346680" cy="10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9" name="圆角矩形 28" descr=""/>
              <p:cNvPicPr/>
              <p:nvPr/>
            </p:nvPicPr>
            <p:blipFill>
              <a:blip r:embed="rId12"/>
              <a:stretch/>
            </p:blipFill>
            <p:spPr>
              <a:xfrm>
                <a:off x="-50760" y="211320"/>
                <a:ext cx="346680" cy="10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0" name="圆角矩形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-50760" y="182520"/>
                <a:ext cx="346680" cy="102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1" name="Rectangle 64"/>
          <p:cNvSpPr/>
          <p:nvPr/>
        </p:nvSpPr>
        <p:spPr>
          <a:xfrm>
            <a:off x="357120" y="96840"/>
            <a:ext cx="2735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TextBox 2"/>
          <p:cNvSpPr/>
          <p:nvPr/>
        </p:nvSpPr>
        <p:spPr>
          <a:xfrm>
            <a:off x="142920" y="1214280"/>
            <a:ext cx="8786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对口令：一五（     ）   三五（     ）  五五（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51"/>
          <p:cNvSpPr/>
          <p:nvPr/>
        </p:nvSpPr>
        <p:spPr>
          <a:xfrm>
            <a:off x="2786040" y="1379520"/>
            <a:ext cx="857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得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51"/>
          <p:cNvSpPr/>
          <p:nvPr/>
        </p:nvSpPr>
        <p:spPr>
          <a:xfrm>
            <a:off x="5357880" y="1379520"/>
            <a:ext cx="857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十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51"/>
          <p:cNvSpPr/>
          <p:nvPr/>
        </p:nvSpPr>
        <p:spPr>
          <a:xfrm>
            <a:off x="7715160" y="137952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十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6"/>
          <p:cNvSpPr/>
          <p:nvPr/>
        </p:nvSpPr>
        <p:spPr>
          <a:xfrm>
            <a:off x="142920" y="4429080"/>
            <a:ext cx="77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. 3×5=      5×4=      5×2=      5×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×5=      2×5=      5×3=      5×1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7"/>
          <p:cNvSpPr/>
          <p:nvPr/>
        </p:nvSpPr>
        <p:spPr>
          <a:xfrm>
            <a:off x="428760" y="171468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诀接龙：连续接龙，间接接龙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组合 18"/>
          <p:cNvGrpSpPr/>
          <p:nvPr/>
        </p:nvGrpSpPr>
        <p:grpSpPr>
          <a:xfrm>
            <a:off x="1714680" y="2500200"/>
            <a:ext cx="2071800" cy="642960"/>
            <a:chOff x="1714680" y="2500200"/>
            <a:chExt cx="2071800" cy="642960"/>
          </a:xfrm>
        </p:grpSpPr>
        <p:sp>
          <p:nvSpPr>
            <p:cNvPr id="1129" name="矩形 8"/>
            <p:cNvSpPr/>
            <p:nvPr/>
          </p:nvSpPr>
          <p:spPr>
            <a:xfrm>
              <a:off x="1714680" y="2500200"/>
              <a:ext cx="1714320" cy="64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一五得五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0" name="直接箭头连接符 10"/>
            <p:cNvCxnSpPr/>
            <p:nvPr/>
          </p:nvCxnSpPr>
          <p:spPr>
            <a:xfrm>
              <a:off x="3429000" y="2857320"/>
              <a:ext cx="3578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131" name="组合 19"/>
          <p:cNvGrpSpPr/>
          <p:nvPr/>
        </p:nvGrpSpPr>
        <p:grpSpPr>
          <a:xfrm>
            <a:off x="3786120" y="2500200"/>
            <a:ext cx="2072160" cy="642960"/>
            <a:chOff x="3786120" y="2500200"/>
            <a:chExt cx="2072160" cy="642960"/>
          </a:xfrm>
        </p:grpSpPr>
        <p:sp>
          <p:nvSpPr>
            <p:cNvPr id="1132" name="矩形 20"/>
            <p:cNvSpPr/>
            <p:nvPr/>
          </p:nvSpPr>
          <p:spPr>
            <a:xfrm>
              <a:off x="3786120" y="2500200"/>
              <a:ext cx="1714680" cy="64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二五一十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3" name="直接箭头连接符 21"/>
            <p:cNvCxnSpPr/>
            <p:nvPr/>
          </p:nvCxnSpPr>
          <p:spPr>
            <a:xfrm>
              <a:off x="5500800" y="2857320"/>
              <a:ext cx="3578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134" name="组合 22"/>
          <p:cNvGrpSpPr/>
          <p:nvPr/>
        </p:nvGrpSpPr>
        <p:grpSpPr>
          <a:xfrm>
            <a:off x="5857920" y="2500200"/>
            <a:ext cx="2072160" cy="642960"/>
            <a:chOff x="5857920" y="2500200"/>
            <a:chExt cx="2072160" cy="642960"/>
          </a:xfrm>
        </p:grpSpPr>
        <p:sp>
          <p:nvSpPr>
            <p:cNvPr id="1135" name="矩形 23"/>
            <p:cNvSpPr/>
            <p:nvPr/>
          </p:nvSpPr>
          <p:spPr>
            <a:xfrm>
              <a:off x="5857920" y="2500200"/>
              <a:ext cx="1714680" cy="64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三五十五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6" name="直接箭头连接符 24"/>
            <p:cNvCxnSpPr/>
            <p:nvPr/>
          </p:nvCxnSpPr>
          <p:spPr>
            <a:xfrm>
              <a:off x="7572600" y="2857320"/>
              <a:ext cx="3578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137" name="组合 25"/>
          <p:cNvGrpSpPr/>
          <p:nvPr/>
        </p:nvGrpSpPr>
        <p:grpSpPr>
          <a:xfrm>
            <a:off x="1714680" y="3357720"/>
            <a:ext cx="2071800" cy="642960"/>
            <a:chOff x="1714680" y="3357720"/>
            <a:chExt cx="2071800" cy="642960"/>
          </a:xfrm>
        </p:grpSpPr>
        <p:sp>
          <p:nvSpPr>
            <p:cNvPr id="1138" name="矩形 26"/>
            <p:cNvSpPr/>
            <p:nvPr/>
          </p:nvSpPr>
          <p:spPr>
            <a:xfrm>
              <a:off x="1714680" y="3357720"/>
              <a:ext cx="1714320" cy="64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四五二十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9" name="直接箭头连接符 27"/>
            <p:cNvCxnSpPr/>
            <p:nvPr/>
          </p:nvCxnSpPr>
          <p:spPr>
            <a:xfrm>
              <a:off x="3429000" y="3714840"/>
              <a:ext cx="3578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0" name="矩形 29"/>
          <p:cNvSpPr/>
          <p:nvPr/>
        </p:nvSpPr>
        <p:spPr>
          <a:xfrm>
            <a:off x="3786120" y="3357720"/>
            <a:ext cx="1857600" cy="6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五五二十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51"/>
          <p:cNvSpPr/>
          <p:nvPr/>
        </p:nvSpPr>
        <p:spPr>
          <a:xfrm>
            <a:off x="1382760" y="459432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51"/>
          <p:cNvSpPr/>
          <p:nvPr/>
        </p:nvSpPr>
        <p:spPr>
          <a:xfrm>
            <a:off x="1454040" y="516564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51"/>
          <p:cNvSpPr/>
          <p:nvPr/>
        </p:nvSpPr>
        <p:spPr>
          <a:xfrm>
            <a:off x="3203640" y="459432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51"/>
          <p:cNvSpPr/>
          <p:nvPr/>
        </p:nvSpPr>
        <p:spPr>
          <a:xfrm>
            <a:off x="3184560" y="517356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51"/>
          <p:cNvSpPr/>
          <p:nvPr/>
        </p:nvSpPr>
        <p:spPr>
          <a:xfrm>
            <a:off x="4910040" y="459432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51"/>
          <p:cNvSpPr/>
          <p:nvPr/>
        </p:nvSpPr>
        <p:spPr>
          <a:xfrm>
            <a:off x="4884840" y="517356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51"/>
          <p:cNvSpPr/>
          <p:nvPr/>
        </p:nvSpPr>
        <p:spPr>
          <a:xfrm>
            <a:off x="6661080" y="458784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51"/>
          <p:cNvSpPr/>
          <p:nvPr/>
        </p:nvSpPr>
        <p:spPr>
          <a:xfrm>
            <a:off x="6661080" y="515952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5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5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0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32"/>
          <p:cNvSpPr/>
          <p:nvPr/>
        </p:nvSpPr>
        <p:spPr>
          <a:xfrm>
            <a:off x="349200" y="965160"/>
            <a:ext cx="8448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乘法口诀是根据几个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相加的来的。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乘法口诀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句，每相邻的两句口诀的积相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乘法不同的口诀可以写两个乘法算式，乘数相同的口诀只能写一个乘法算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 txBox="1"/>
          <p:nvPr/>
        </p:nvSpPr>
        <p:spPr>
          <a:xfrm>
            <a:off x="457200" y="15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把每句口诀补充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三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五十五           （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）五二十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一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五得五           （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）（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）二十五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五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一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（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组合 2"/>
          <p:cNvGrpSpPr/>
          <p:nvPr/>
        </p:nvGrpSpPr>
        <p:grpSpPr>
          <a:xfrm>
            <a:off x="-50760" y="87480"/>
            <a:ext cx="3152880" cy="527040"/>
            <a:chOff x="-50760" y="87480"/>
            <a:chExt cx="3152880" cy="527040"/>
          </a:xfrm>
        </p:grpSpPr>
        <p:pic>
          <p:nvPicPr>
            <p:cNvPr id="1164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94680" y="87480"/>
              <a:ext cx="30074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5" name="组合 4"/>
            <p:cNvGrpSpPr/>
            <p:nvPr/>
          </p:nvGrpSpPr>
          <p:grpSpPr>
            <a:xfrm>
              <a:off x="-50760" y="182520"/>
              <a:ext cx="417600" cy="274680"/>
              <a:chOff x="-50760" y="182520"/>
              <a:chExt cx="417600" cy="274680"/>
            </a:xfrm>
          </p:grpSpPr>
          <p:sp>
            <p:nvSpPr>
              <p:cNvPr id="1166" name="椭圆 17"/>
              <p:cNvSpPr/>
              <p:nvPr/>
            </p:nvSpPr>
            <p:spPr>
              <a:xfrm rot="16200000">
                <a:off x="190080" y="348120"/>
                <a:ext cx="9864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7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56960" y="313560"/>
                <a:ext cx="20988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8" name="椭圆 22"/>
              <p:cNvSpPr/>
              <p:nvPr/>
            </p:nvSpPr>
            <p:spPr>
              <a:xfrm rot="16200000">
                <a:off x="190080" y="221400"/>
                <a:ext cx="9864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9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60" y="197640"/>
                <a:ext cx="209880" cy="11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圆角矩形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30480"/>
                <a:ext cx="344520" cy="10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01320"/>
                <a:ext cx="344520" cy="10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2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1320"/>
                <a:ext cx="344520" cy="10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3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44520" cy="102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4" name="矩形 1"/>
          <p:cNvSpPr/>
          <p:nvPr/>
        </p:nvSpPr>
        <p:spPr>
          <a:xfrm>
            <a:off x="1008000" y="2371680"/>
            <a:ext cx="533520" cy="4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矩形 2"/>
          <p:cNvSpPr/>
          <p:nvPr/>
        </p:nvSpPr>
        <p:spPr>
          <a:xfrm>
            <a:off x="4627440" y="2414520"/>
            <a:ext cx="5335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3"/>
          <p:cNvSpPr/>
          <p:nvPr/>
        </p:nvSpPr>
        <p:spPr>
          <a:xfrm>
            <a:off x="1008000" y="314964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4"/>
          <p:cNvSpPr/>
          <p:nvPr/>
        </p:nvSpPr>
        <p:spPr>
          <a:xfrm>
            <a:off x="4627440" y="315756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矩形 5"/>
          <p:cNvSpPr/>
          <p:nvPr/>
        </p:nvSpPr>
        <p:spPr>
          <a:xfrm>
            <a:off x="6095880" y="314964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矩形 6"/>
          <p:cNvSpPr/>
          <p:nvPr/>
        </p:nvSpPr>
        <p:spPr>
          <a:xfrm>
            <a:off x="1812960" y="387036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矩形 7"/>
          <p:cNvSpPr/>
          <p:nvPr/>
        </p:nvSpPr>
        <p:spPr>
          <a:xfrm>
            <a:off x="3208320" y="3895560"/>
            <a:ext cx="5335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我能看图写算式和口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 △ △ △ △ △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△ △ △ △ △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△ △ △ △ △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口诀：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三五十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　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　　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　 口诀：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二五一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23839"/>
          <p:cNvSpPr/>
          <p:nvPr/>
        </p:nvSpPr>
        <p:spPr>
          <a:xfrm>
            <a:off x="1062000" y="4224240"/>
            <a:ext cx="2286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23839"/>
          <p:cNvSpPr/>
          <p:nvPr/>
        </p:nvSpPr>
        <p:spPr>
          <a:xfrm>
            <a:off x="1550880" y="4224240"/>
            <a:ext cx="2286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23839"/>
          <p:cNvSpPr/>
          <p:nvPr/>
        </p:nvSpPr>
        <p:spPr>
          <a:xfrm>
            <a:off x="1955880" y="4224240"/>
            <a:ext cx="2286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23839"/>
          <p:cNvSpPr/>
          <p:nvPr/>
        </p:nvSpPr>
        <p:spPr>
          <a:xfrm>
            <a:off x="2424240" y="4224240"/>
            <a:ext cx="2286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23839"/>
          <p:cNvSpPr/>
          <p:nvPr/>
        </p:nvSpPr>
        <p:spPr>
          <a:xfrm>
            <a:off x="2955960" y="4224240"/>
            <a:ext cx="2286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23839"/>
          <p:cNvSpPr/>
          <p:nvPr/>
        </p:nvSpPr>
        <p:spPr>
          <a:xfrm>
            <a:off x="1062000" y="4778280"/>
            <a:ext cx="22860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val 23839"/>
          <p:cNvSpPr/>
          <p:nvPr/>
        </p:nvSpPr>
        <p:spPr>
          <a:xfrm>
            <a:off x="1550880" y="4778280"/>
            <a:ext cx="22860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23839"/>
          <p:cNvSpPr/>
          <p:nvPr/>
        </p:nvSpPr>
        <p:spPr>
          <a:xfrm>
            <a:off x="1955880" y="4778280"/>
            <a:ext cx="22860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23839"/>
          <p:cNvSpPr/>
          <p:nvPr/>
        </p:nvSpPr>
        <p:spPr>
          <a:xfrm>
            <a:off x="2424240" y="4778280"/>
            <a:ext cx="22860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23839"/>
          <p:cNvSpPr/>
          <p:nvPr/>
        </p:nvSpPr>
        <p:spPr>
          <a:xfrm>
            <a:off x="2955960" y="4778280"/>
            <a:ext cx="22860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23819"/>
          <p:cNvSpPr/>
          <p:nvPr/>
        </p:nvSpPr>
        <p:spPr>
          <a:xfrm>
            <a:off x="5213520" y="2286000"/>
            <a:ext cx="3776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23819"/>
          <p:cNvSpPr/>
          <p:nvPr/>
        </p:nvSpPr>
        <p:spPr>
          <a:xfrm>
            <a:off x="6127920" y="2286000"/>
            <a:ext cx="3776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23819"/>
          <p:cNvSpPr/>
          <p:nvPr/>
        </p:nvSpPr>
        <p:spPr>
          <a:xfrm>
            <a:off x="7021440" y="2286000"/>
            <a:ext cx="4618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23819"/>
          <p:cNvSpPr/>
          <p:nvPr/>
        </p:nvSpPr>
        <p:spPr>
          <a:xfrm>
            <a:off x="5213520" y="2849400"/>
            <a:ext cx="3776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23819"/>
          <p:cNvSpPr/>
          <p:nvPr/>
        </p:nvSpPr>
        <p:spPr>
          <a:xfrm>
            <a:off x="6127920" y="2849400"/>
            <a:ext cx="3776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23819"/>
          <p:cNvSpPr/>
          <p:nvPr/>
        </p:nvSpPr>
        <p:spPr>
          <a:xfrm>
            <a:off x="7021440" y="2849400"/>
            <a:ext cx="4618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23819"/>
          <p:cNvSpPr/>
          <p:nvPr/>
        </p:nvSpPr>
        <p:spPr>
          <a:xfrm>
            <a:off x="5213520" y="4056120"/>
            <a:ext cx="3776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23819"/>
          <p:cNvSpPr/>
          <p:nvPr/>
        </p:nvSpPr>
        <p:spPr>
          <a:xfrm>
            <a:off x="6127920" y="4056120"/>
            <a:ext cx="3776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23819"/>
          <p:cNvSpPr/>
          <p:nvPr/>
        </p:nvSpPr>
        <p:spPr>
          <a:xfrm>
            <a:off x="7021440" y="4056120"/>
            <a:ext cx="46188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23819"/>
          <p:cNvSpPr/>
          <p:nvPr/>
        </p:nvSpPr>
        <p:spPr>
          <a:xfrm>
            <a:off x="5213520" y="4692600"/>
            <a:ext cx="3776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23819"/>
          <p:cNvSpPr/>
          <p:nvPr/>
        </p:nvSpPr>
        <p:spPr>
          <a:xfrm>
            <a:off x="6127920" y="4692600"/>
            <a:ext cx="3776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23819"/>
          <p:cNvSpPr/>
          <p:nvPr/>
        </p:nvSpPr>
        <p:spPr>
          <a:xfrm>
            <a:off x="7021440" y="4694400"/>
            <a:ext cx="46188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直接连接符 59"/>
          <p:cNvSpPr/>
          <p:nvPr/>
        </p:nvSpPr>
        <p:spPr>
          <a:xfrm>
            <a:off x="5591160" y="3863880"/>
            <a:ext cx="2352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直接连接符 61"/>
          <p:cNvSpPr/>
          <p:nvPr/>
        </p:nvSpPr>
        <p:spPr>
          <a:xfrm>
            <a:off x="5562720" y="5640480"/>
            <a:ext cx="2315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矩形 1"/>
          <p:cNvSpPr/>
          <p:nvPr/>
        </p:nvSpPr>
        <p:spPr>
          <a:xfrm>
            <a:off x="8129520" y="41400"/>
            <a:ext cx="3430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矩形 2"/>
          <p:cNvSpPr/>
          <p:nvPr/>
        </p:nvSpPr>
        <p:spPr>
          <a:xfrm>
            <a:off x="5234040" y="2336760"/>
            <a:ext cx="341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矩形 3"/>
          <p:cNvSpPr/>
          <p:nvPr/>
        </p:nvSpPr>
        <p:spPr>
          <a:xfrm>
            <a:off x="6148440" y="2357280"/>
            <a:ext cx="341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矩形 4"/>
          <p:cNvSpPr/>
          <p:nvPr/>
        </p:nvSpPr>
        <p:spPr>
          <a:xfrm>
            <a:off x="7080120" y="2336760"/>
            <a:ext cx="343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矩形 5"/>
          <p:cNvSpPr/>
          <p:nvPr/>
        </p:nvSpPr>
        <p:spPr>
          <a:xfrm>
            <a:off x="5243400" y="2898720"/>
            <a:ext cx="343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矩形 6"/>
          <p:cNvSpPr/>
          <p:nvPr/>
        </p:nvSpPr>
        <p:spPr>
          <a:xfrm>
            <a:off x="6168960" y="2900520"/>
            <a:ext cx="341280" cy="26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矩形 7"/>
          <p:cNvSpPr/>
          <p:nvPr/>
        </p:nvSpPr>
        <p:spPr>
          <a:xfrm>
            <a:off x="7072200" y="2911320"/>
            <a:ext cx="341280" cy="26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矩形 8"/>
          <p:cNvSpPr/>
          <p:nvPr/>
        </p:nvSpPr>
        <p:spPr>
          <a:xfrm>
            <a:off x="6060960" y="3436920"/>
            <a:ext cx="152244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矩形 10"/>
          <p:cNvSpPr/>
          <p:nvPr/>
        </p:nvSpPr>
        <p:spPr>
          <a:xfrm>
            <a:off x="5243400" y="4095720"/>
            <a:ext cx="327240" cy="26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矩形 13"/>
          <p:cNvSpPr/>
          <p:nvPr/>
        </p:nvSpPr>
        <p:spPr>
          <a:xfrm>
            <a:off x="6148440" y="4127400"/>
            <a:ext cx="341280" cy="26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矩形 20"/>
          <p:cNvSpPr/>
          <p:nvPr/>
        </p:nvSpPr>
        <p:spPr>
          <a:xfrm>
            <a:off x="7072200" y="4127400"/>
            <a:ext cx="341280" cy="26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矩形 21"/>
          <p:cNvSpPr/>
          <p:nvPr/>
        </p:nvSpPr>
        <p:spPr>
          <a:xfrm>
            <a:off x="5243400" y="4757760"/>
            <a:ext cx="319320" cy="26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矩形 23"/>
          <p:cNvSpPr/>
          <p:nvPr/>
        </p:nvSpPr>
        <p:spPr>
          <a:xfrm>
            <a:off x="6148440" y="4761000"/>
            <a:ext cx="341280" cy="26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24"/>
          <p:cNvSpPr/>
          <p:nvPr/>
        </p:nvSpPr>
        <p:spPr>
          <a:xfrm>
            <a:off x="7081920" y="4722840"/>
            <a:ext cx="3427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矩形 26"/>
          <p:cNvSpPr/>
          <p:nvPr/>
        </p:nvSpPr>
        <p:spPr>
          <a:xfrm>
            <a:off x="5959440" y="5205240"/>
            <a:ext cx="152244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我会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4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5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5×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5×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1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5×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矩形 1"/>
          <p:cNvSpPr/>
          <p:nvPr/>
        </p:nvSpPr>
        <p:spPr>
          <a:xfrm>
            <a:off x="1746360" y="2610000"/>
            <a:ext cx="53316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2"/>
          <p:cNvSpPr/>
          <p:nvPr/>
        </p:nvSpPr>
        <p:spPr>
          <a:xfrm>
            <a:off x="3705120" y="2616120"/>
            <a:ext cx="5335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矩形 3"/>
          <p:cNvSpPr/>
          <p:nvPr/>
        </p:nvSpPr>
        <p:spPr>
          <a:xfrm>
            <a:off x="5610240" y="261936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矩形 4"/>
          <p:cNvSpPr/>
          <p:nvPr/>
        </p:nvSpPr>
        <p:spPr>
          <a:xfrm>
            <a:off x="7643880" y="2610000"/>
            <a:ext cx="53316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矩形 5"/>
          <p:cNvSpPr/>
          <p:nvPr/>
        </p:nvSpPr>
        <p:spPr>
          <a:xfrm>
            <a:off x="1809720" y="3557520"/>
            <a:ext cx="5335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矩形 6"/>
          <p:cNvSpPr/>
          <p:nvPr/>
        </p:nvSpPr>
        <p:spPr>
          <a:xfrm>
            <a:off x="3684600" y="355932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矩形 7"/>
          <p:cNvSpPr/>
          <p:nvPr/>
        </p:nvSpPr>
        <p:spPr>
          <a:xfrm>
            <a:off x="5570640" y="3557520"/>
            <a:ext cx="53316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矩形 8"/>
          <p:cNvSpPr/>
          <p:nvPr/>
        </p:nvSpPr>
        <p:spPr>
          <a:xfrm>
            <a:off x="7736040" y="3589200"/>
            <a:ext cx="53316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8:54:00Z</dcterms:created>
  <dc:creator/>
  <dc:description/>
  <dc:language>en-US</dc:language>
  <cp:lastModifiedBy>万润仪器贸易公司</cp:lastModifiedBy>
  <dcterms:modified xsi:type="dcterms:W3CDTF">2020-08-21T00:35:03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